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378E6-9704-43E9-ADBB-65443166D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537FD-80E5-4B4C-934A-1E6EF1A313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B5445-2BD3-4CB2-ACEF-5BF19A8DB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14549-337E-4857-A10F-96EE452E16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2BA98-9F62-4843-B145-D49C7CE3E7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953-9C73-4F74-BC2A-2A4A1D3A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A89-F7D0-49DE-A25D-1E4F737F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0F9-F4BB-48FA-9E71-A16B5B69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EE1-17EB-40B1-B281-07A847E8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73D-742F-4011-B87E-FC411D3D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F89-2BE4-42C1-8A48-BED5E4EA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1F4-16BA-4F1B-96E3-F6F0CC67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60F-3B39-4EEB-AC0B-35A30E39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5BB-630A-4BB1-B52D-69E2182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38C-C8EB-4612-B8D2-94A8061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7AC-4484-4844-9AC7-3408A58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F25-2DF9-492A-96EB-44F6384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7BB4-2C1F-47D2-B983-EFE8B7A33F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24"/>
          <p:cNvSpPr/>
          <p:nvPr/>
        </p:nvSpPr>
        <p:spPr>
          <a:xfrm>
            <a:off x="2068560" y="74520"/>
            <a:ext cx="51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Arial Narrow"/>
              </a:rPr>
              <a:t>GARIS BESAR PROGRAM PENGAJA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Arial Narrow"/>
              </a:rPr>
              <a:t>(GBP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Nama Mata Kuliah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Ekonomi Produk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Nomor Kode/SKS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ESL 313 / 3 (3 -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Semeste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Dos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.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Ujang Sehabudin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ovind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SP,M.S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stuti, SP, 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i Hadianto, SP,M.S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Prasyara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Ekonomi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m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Deskripsi Singkat: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Mata kuliah ini membahas konsep dan teori ekonomi  dalam proses produksi dan alokasi sumberdaya dalam  rangka optimalisasi / efesiensi produksi terutama di bidang pertanian melalui pendekatan fungsi produksi dan biaya. Pembahasan mencakup konsep produksi, biaya, hubungan antara produksi dan biaya  serta optimalisasi/efisiensi produksi, baik teknis maupun ekonom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Tujuan Instruksional Umu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d-ID" sz="1800" spc="-1" strike="noStrike">
                <a:solidFill>
                  <a:srgbClr val="ffffff"/>
                </a:solidFill>
                <a:latin typeface="Tahoma"/>
              </a:rPr>
              <a:t>Setelah mendapatkan mata kuliah ini, diharapkan mahasiswa dapat memahami konsep dan teori ekonomi produksi serta mampu mengaplikasikannya dalam rangka mencapai optimalisasi proses produksi terutama dalam bidang pertanian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25"/>
          <p:cNvSpPr/>
          <p:nvPr/>
        </p:nvSpPr>
        <p:spPr>
          <a:xfrm>
            <a:off x="5029200" y="6629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592200"/>
          <a:ext cx="8534160" cy="6113520"/>
        </p:xfrm>
        <a:graphic>
          <a:graphicData uri="http://schemas.openxmlformats.org/drawingml/2006/table">
            <a:tbl>
              <a:tblPr/>
              <a:tblGrid>
                <a:gridCol w="1036440"/>
                <a:gridCol w="2173320"/>
                <a:gridCol w="1751040"/>
                <a:gridCol w="3573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temu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 ke 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juan Instruksional Khu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kok Bahas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 Pokok Bahas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dan pengertian ekonomi produks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dahulu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sep dan lingkup ekonomi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jelasan perkulia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gertian ekonomi dan ekonomi produks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masalahan ekonomi produks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juan ekonomi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ka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produks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sep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s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gsi dan kurva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kum Kenaikan Hasil yang semaki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kurang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sitas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  Daerah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ka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biaya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aya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gertian bi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nis biaya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gsi dan kurva biaya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bungan Produksi dan Bi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ka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maksimisasi profit dengan satu input dan satu outpu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si  dengan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satu input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b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lai Produk Total &amp; Biay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ktor/Sumberdaya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lai Produk Marjinal dan Biay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kto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ji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disi Umum Maksimisasi Prof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i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cessary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an </a:t>
                      </a:r>
                      <a:r>
                        <a:rPr b="0" i="1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fficient Conditions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ka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3"/>
          <p:cNvSpPr/>
          <p:nvPr/>
        </p:nvSpPr>
        <p:spPr>
          <a:xfrm>
            <a:off x="342900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ERI U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40"/>
          <p:cNvSpPr/>
          <p:nvPr/>
        </p:nvSpPr>
        <p:spPr>
          <a:xfrm>
            <a:off x="0" y="580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355"/>
          <p:cNvSpPr/>
          <p:nvPr/>
        </p:nvSpPr>
        <p:spPr>
          <a:xfrm>
            <a:off x="0" y="699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898560"/>
          <a:ext cx="8153280" cy="5273640"/>
        </p:xfrm>
        <a:graphic>
          <a:graphicData uri="http://schemas.openxmlformats.org/drawingml/2006/table">
            <a:tbl>
              <a:tblPr/>
              <a:tblGrid>
                <a:gridCol w="1242720"/>
                <a:gridCol w="1909800"/>
                <a:gridCol w="1989360"/>
                <a:gridCol w="301140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-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produ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dengan input gan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si dengan Input Gan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quant dan M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cost/budget 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ksimisasi profit deng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put gan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 Contoh ka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-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permintaan input (derived dem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mintaan Input dalam Proses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gertian permintaan input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gsi Permintaan In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sitas Permintaan In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aplik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- 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konsep produksi dengan produk gan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si dengan Produk Gan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va Kemungkin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mpetitif, Suplemen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mplemen dan Join Produ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ksimisasi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fit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g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 G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aplik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Char char="•"/>
                        <a:tabLst>
                          <a:tab algn="l" pos="23796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hasiswa memahami bahwa variabel waktu merupakan input dalam proses 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es Produksi dengan Pertimbangan Wa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sur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ktu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alam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duk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counting Revenues d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3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 </a:t>
                      </a:r>
                      <a:r>
                        <a:rPr b="0" lang="id-ID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oh kas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528"/>
          <p:cNvSpPr/>
          <p:nvPr/>
        </p:nvSpPr>
        <p:spPr>
          <a:xfrm>
            <a:off x="0" y="580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543"/>
          <p:cNvSpPr/>
          <p:nvPr/>
        </p:nvSpPr>
        <p:spPr>
          <a:xfrm>
            <a:off x="0" y="699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58128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ERI U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1447920"/>
          <a:ext cx="7467840" cy="2835000"/>
        </p:xfrm>
        <a:graphic>
          <a:graphicData uri="http://schemas.openxmlformats.org/drawingml/2006/table">
            <a:tbl>
              <a:tblPr/>
              <a:tblGrid>
                <a:gridCol w="1435320"/>
                <a:gridCol w="258840"/>
                <a:gridCol w="5773680"/>
              </a:tblGrid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Buku Referen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Book Antiqu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Doll, J.P dan F. Orazem, 1978.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Economics:     Theory with Applications. Grid Inc.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Columbus, Ohio, US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2.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Debertin, D.L. 1986. Agricultural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Economics. Macmillan Publishing Company, N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York, US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3.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oekartawi. 2003. Teori Ekonomi Produksi. 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Raj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Grafindo Persada. Jak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458440" y="38088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ATA TERTIB PERKULIA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685800" y="914400"/>
            <a:ext cx="800100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HASISWA WAJIB HADIR TEPAT WAKTU SESUAI JADWAL PERKULIAHAN, KALAUPUN TERLAMBAT HADIR MAKSIMUM 15 MENIT SEJAK JADWAL PERKULIAHAN DIMULA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IKA TERLAMBAT HADIR LEBIH DARI 15 MENIT SEJAK PERKULIAHAN DIMULAI, TIDAK DIPERKENANKAN MENGIKUTI PERKULIAH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KEHADIRAN DALAM PERKULIAHAN MINIMUM 80% DARI TOTAL TATAP MUKA YANG DISELENGGARAKAN.  JIKA KEHADIRAN KURANG DARI 80%, TIDAK DIPERKENANKAN MENGIKUTI UAS, DAN NILAI UAS DINYATAKAN N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AMA PERKULIAHAN DI DALAM KELAS TIDAK DIPERKENANKAN MELAKUKAN HAL-HAL YANG MENGGANGGU PERKULIAHAN (MAKAN, MINUM, NGOBROL, MENGHIDUPKAN HP DENGAN NADA DERING, DS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AJIB MENGIKUTI UJIAN (UTS, UAS) DAN MENGERJAKAN TUGAS-TUGAS YANG DIBERIKAN PENGAJ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AMA UJIAN BERLANGSUNG TIDAK DIPERKENANKAN MELAKUKAN KECURANGAN (MENCONTEK). JIKA KETAHUAN, PENGAWAS AKAN MENGAMBIL BERKAS ANDA DAN NILAINYA DINYATAKAN N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AJIB MENTAATI PERATURAN LAINNYA SEBAGAIMANA TERCANTUM DALAM BUKU PANDUAN SARJAN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42900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NILA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219320" y="1600200"/>
            <a:ext cx="6400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LAI AKHIR (NA) = UTS + UAS + TUGAS-TUG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OBOT MASING-MASING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TS                = MINIMUM 40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AS                = MINIMU 40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UGAS-TUGAS = MAKSIMUM 20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13:07:42Z</dcterms:created>
  <dc:creator>Titik smile</dc:creator>
  <dc:description/>
  <dc:language>en-US</dc:language>
  <cp:lastModifiedBy>XP</cp:lastModifiedBy>
  <dcterms:modified xsi:type="dcterms:W3CDTF">2012-09-06T04:15:47Z</dcterms:modified>
  <cp:revision>51</cp:revision>
  <dc:subject/>
  <dc:title>DEMAND AND SUPPLY ELASTICITY</dc:title>
</cp:coreProperties>
</file>