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applause.wav" ContentType="audio/x-wav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577-8070-4515-9862-1FCD64F1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A76-1CD0-4AD3-B4AF-57308F7B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37541-C9B0-4899-9FEF-CD2FBD27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C3ECD-E7C8-4996-AB8D-B02FCF67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346C4-46A7-45CA-A765-5710BC9F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71EC7-03AB-44A6-BB07-77EFBA08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7A5E3-3A9C-4A7B-A805-564F4CF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7E18C-F5DB-4E71-96A5-136B9F11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F02E2-42EA-420B-B9B8-E2777C20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C9D17-9F0A-439C-9D99-0FD3AFAD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A1C32-DAC7-4D78-A8AE-10E5D39A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90E68-5B22-4EE2-8FDF-37563780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1C1-C052-4C64-9498-566B96A5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8F69B-44A6-470A-B74F-E6627796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958FF-32AE-44C3-B9B4-2D0B83DD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91DFD-53E5-4C82-AD6B-1B0B1132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A915C-1CE0-4B35-B6E0-798AD49A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51B17-0C94-4BD9-A8CF-32EB9ACC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452F6-8809-425D-B39E-026A8A9C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449D9-8754-45E4-B228-E19C2C60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FD6AF-5EB9-4C54-9BB5-7B13D5A7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68BBE-5E3A-4A90-8C58-A8F644A5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A4952-A0D9-4FB2-AC01-A25F48B1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A1F-DBE4-4D5F-A8B6-13BD9D38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9B7CE-C465-48CB-9607-22D9D525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957D7-A948-49A7-B788-13A8147A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858F9-2BA6-4013-86E4-4DDFE234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3C066-71AB-47EA-9415-4B613EC3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4B0B2-F25D-4BAE-A253-2034EC1B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9047B-FC76-4D81-8872-05F0D236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B4EDC-A709-4705-985E-D272DBBD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DF0C4-9921-4681-941B-6DA68BE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28433-706F-4A0D-9CD3-E24E4AA8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AC279-A09F-4938-80AF-0E0B888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DD80-DE67-4EAD-9B1E-7B80FCDD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EC788-E085-4E2F-942D-0B5AF402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B88CB-B478-45AB-A1A3-DD382BE2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745DC-87C4-41EB-8D29-E66C7A45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8062A-6355-46A3-BD4D-675A35B9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6D029-7E38-44C2-849E-B394C6D5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8BE0F-CB8A-413E-95B8-5A987261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09AAD-2F4A-44D6-A6CA-69EFB35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DE538-8062-4684-8A04-53DA35AD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B2972-7B2F-4653-A02E-9C5C4D22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94D82-6334-489B-B816-0B7D997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A8D5-C282-4BE7-9FCE-11B94696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6647F-9C6B-4F85-9BA2-816DF28F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7E72D-36BA-43F7-8AC4-37684D61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56271-E6DE-4191-A191-4E61A2B2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757F9-4F8A-4889-A6D6-43F7CB34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CACBB-3CF5-4CEE-BB87-C76449C8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2A359-1447-4469-A1E9-98833AFA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ADC56-E4A2-47D1-8E87-325D749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039B0-5C6A-44BA-B5F9-8FA9D551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7AA9D-6E1B-4747-AE9F-F77595ED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20A31-4492-4F72-8E46-2EA4001F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3020-31F3-44CD-B1A1-E8BD88E1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61787-DB30-4EFA-8C36-934BA761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9577F-CD64-4F6D-AE6D-EB5D870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446CB-C156-4537-9CEF-7D29B92B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9D3B6-401F-427A-85A9-A6338D4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BA9E6-AE96-4C2A-86BF-6DA23F50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84F57-8B87-47A7-AF4B-60C34139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089E7-617A-452F-96C8-B816B940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5020-4A13-4972-8905-104FB2DB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D6B1-1459-4BA2-A34C-BCE508BF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C878-7C63-4926-B71C-53134555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E34C-45C9-442E-BD86-74F64AF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10A-E17D-4D01-9A01-7748E1E8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5D61-D8F9-443A-8399-F218B773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FB2F-D755-4BA3-A9B6-AF0D5689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702C-93BD-4877-BC6B-913601BD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E207-0D23-4B03-B0D8-EEAED0BD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508F-FB96-4CC4-B850-DF45FF71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85F88-0499-4254-A1AC-18C372C9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0A07-E702-4EDD-AD2C-7D9D1732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5426-A8E1-4401-A3AB-F9CE30D8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0E34-C5F0-4550-AD86-72B5C5B3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F1D5-6FB8-4613-9CD8-DF153CBC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0AF-2ED5-47EF-B231-64C3ABE6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CC1D-8C2F-426B-A8AD-3F6238F3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FAE5-F119-42CC-9B4A-EDB3D8C2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9F1A-9CFA-453F-901F-C4BAB05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3B66-9279-4ED8-9CE1-2EF99189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593F-D7A3-4D9E-A6CA-A2C9C3D2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8E62-6316-4576-A135-4A1415AA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7FFB-CBCA-4BB7-840F-05673B0A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E0B0-8299-4CF2-8866-C1F10C70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C104-4A84-4B18-AE8B-562E4DAC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3EF82-C758-4D24-91B8-5CE5A03B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895-F4B1-4755-8CCB-47528950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E12BF-0B0E-4E06-9EB2-581E4E7A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EB75-E363-4E7D-944B-8E5CC364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31F9C-9CCC-4D92-B7AA-0FDD9CD2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5111F-8957-4A8E-AD1E-03F4D168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EF23-0C36-4F0F-A9BB-0C66706B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8AC4-A5D7-4D83-9923-460D3CAA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0165-C647-4133-BA6B-8646077D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59085-F300-47DD-A994-FA7E14AE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CECAA-813D-479E-B051-EE2900F0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6B9BB-6D7C-43DD-A51B-D717212D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2DB-D4FC-4279-A920-495A56F1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E90F3-E530-4C87-AA80-1B274661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F8666-B77D-4B33-B7A8-DBD9EC5C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2604A-7430-47B5-8605-E33E4853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0642F-31C2-40EE-856A-D666CB36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E694-DF64-42FC-A972-2910C2AB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2E950-4908-4D15-8BE4-9656CA3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E484-AB96-4CBD-9D47-B6159BC2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7BA69-D4A8-4080-9C0F-BCCF36B8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771AA-62B7-4EE7-BD8A-3A856E09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29BBF-D5F9-4392-AD38-7AA6BD42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623-A099-4273-8E02-02C9908B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35C3-E4D5-4137-B577-AA5F4BD7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D6D7F-1E87-4CE6-93BA-73343A80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71D75-7B8E-4C28-ABCC-FB22B08A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C207E-7FC5-4C09-B36A-9BA25F0A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75DB9-454B-452A-8C7C-1EFE73E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F1609-B3D8-4E82-8C84-DEABBA1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C7855-5E88-49E3-84D2-FF06ED18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BB53F-BB34-4E25-BE89-E3356FC1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BA0E2-7CC2-45DC-9831-E6348243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33328-2A23-4A54-B791-9FA2C5C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FD9-98B4-4CD0-BF71-DA255FD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15E05-319A-4808-A9BD-AEED8D9A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060CD-6B52-4A60-AE57-EC81415E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5C863-FB9C-48B9-9C87-B98AAC16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01A3D-292E-4731-BE18-73276B0C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A3EC5-515B-4295-99D1-CDC55CEA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DEC0F-1D79-4348-8751-700F88EB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8222D-76B6-4891-ADED-335AAEBB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56B35-ECF5-44C2-B303-5E8DB0D5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3AC6-846A-4C92-82BE-32466EBD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A326-A305-49DC-AD09-5B86FEE6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97C-A9A8-44EA-9F00-9001B663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D8B43-73A1-435E-A8D9-5E31B7F9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E26F3-9E34-4FAA-8377-43FA0453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DCCB7-9840-4848-8554-6904F13A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ED439-2602-4BEC-B7A3-17A548CE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F5167-662F-48CE-B069-1BE21E2B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A3436-1FEE-479A-898A-339660AA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AFED4-6F05-43EA-9A48-B4C4A8AA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A4B7-7EE0-489F-9A1F-89837999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EFCFA-D1A5-40AA-82EC-9DDC04D4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0D7CD-5355-4936-A971-C43D331E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11F-9A6D-420E-A038-3DB24ABD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C8A88-DB76-443B-987E-6C3CBC5C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25439-0863-4B83-A756-A02D2685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29991-4E06-4DEE-8B06-38E2C685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65FB6-4701-4249-BDE7-422718D2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26B48-77B9-4BA6-8829-BB3E5B7E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77CBB-6D9F-4206-A46A-299660E3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8D46F-8CCE-4EEC-97C9-3AE64608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21A4A-78A1-4745-BAAA-5570D9D6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DB092-669E-405E-8186-F458CA24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F9649-7565-43E0-97CF-AE960543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11F2-97F8-46A0-B411-E60310111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9375-6CE9-42B8-948D-724A90456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0CF0-2E6B-4A67-B925-FA10EC961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F67-EEB3-4508-A895-B84B130BF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034A-72AD-4D9E-93FF-C96D03419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D9CF-A22F-4A8E-AEEE-28B3494CC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8265-576D-4507-9D88-3BEE44FE1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557C-9A3A-4C96-A096-0F6AF02F8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4560-755C-4DC9-9851-1F7D66965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1B9C-A96E-4AE9-B26E-9D6179898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F0EC-2DFB-42F9-9481-C2A166BBB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2F3B-DE5E-4890-88A6-BE3855F05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FE27-8513-4EFD-8999-6245C5D8F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TextBox 4"/>
          <p:cNvSpPr/>
          <p:nvPr/>
        </p:nvSpPr>
        <p:spPr>
          <a:xfrm>
            <a:off x="1029600" y="851040"/>
            <a:ext cx="69620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ERI MINGGU KE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ONSEP DAN RUANG LING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KONOMI PRODUKS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ECONOMICS, AGRICULTURAL ECONOMIC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RODUCTION ECONOMIC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OALS OF PRODUCTION ECONOMIC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438120" y="228240"/>
            <a:ext cx="822312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ECONOMIC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nlimited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vs     Resourc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carc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9" name="Straight Arrow Connector 3"/>
          <p:cNvCxnSpPr/>
          <p:nvPr/>
        </p:nvCxnSpPr>
        <p:spPr>
          <a:xfrm flipH="1">
            <a:off x="1058040" y="2673360"/>
            <a:ext cx="2520" cy="216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1380" name="Straight Arrow Connector 8"/>
          <p:cNvCxnSpPr/>
          <p:nvPr/>
        </p:nvCxnSpPr>
        <p:spPr>
          <a:xfrm flipH="1">
            <a:off x="1189800" y="2006640"/>
            <a:ext cx="3960" cy="8452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81" name="TextBox 9"/>
          <p:cNvSpPr/>
          <p:nvPr/>
        </p:nvSpPr>
        <p:spPr>
          <a:xfrm>
            <a:off x="527040" y="2762280"/>
            <a:ext cx="28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or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2" name="Straight Arrow Connector 13"/>
          <p:cNvCxnSpPr/>
          <p:nvPr/>
        </p:nvCxnSpPr>
        <p:spPr>
          <a:xfrm flipH="1">
            <a:off x="1193040" y="3251160"/>
            <a:ext cx="1080" cy="8899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83" name="TextBox 15"/>
          <p:cNvSpPr/>
          <p:nvPr/>
        </p:nvSpPr>
        <p:spPr>
          <a:xfrm>
            <a:off x="668160" y="418464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4" name="Straight Arrow Connector 7"/>
          <p:cNvCxnSpPr/>
          <p:nvPr/>
        </p:nvCxnSpPr>
        <p:spPr>
          <a:xfrm flipH="1">
            <a:off x="5769720" y="2117520"/>
            <a:ext cx="3960" cy="21135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85" name="TextBox 14"/>
          <p:cNvSpPr/>
          <p:nvPr/>
        </p:nvSpPr>
        <p:spPr>
          <a:xfrm>
            <a:off x="5149800" y="422928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6" name="Straight Arrow Connector 18"/>
          <p:cNvCxnSpPr/>
          <p:nvPr/>
        </p:nvCxnSpPr>
        <p:spPr>
          <a:xfrm flipH="1" flipV="1">
            <a:off x="2171520" y="4406400"/>
            <a:ext cx="2978640" cy="518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87" name="TextBox 19"/>
          <p:cNvSpPr/>
          <p:nvPr/>
        </p:nvSpPr>
        <p:spPr>
          <a:xfrm>
            <a:off x="2927520" y="5965920"/>
            <a:ext cx="355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ize Satisfaction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aze Prof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8" name="Straight Arrow Connector 20"/>
          <p:cNvCxnSpPr/>
          <p:nvPr/>
        </p:nvCxnSpPr>
        <p:spPr>
          <a:xfrm flipH="1">
            <a:off x="1193040" y="4539960"/>
            <a:ext cx="1080" cy="8895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89" name="TextBox 15"/>
          <p:cNvSpPr/>
          <p:nvPr/>
        </p:nvSpPr>
        <p:spPr>
          <a:xfrm>
            <a:off x="838080" y="550404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0" name="Straight Arrow Connector 23"/>
          <p:cNvCxnSpPr/>
          <p:nvPr/>
        </p:nvCxnSpPr>
        <p:spPr>
          <a:xfrm flipV="1">
            <a:off x="1682640" y="5650920"/>
            <a:ext cx="356400" cy="4500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1391" name="Straight Arrow Connector 25"/>
          <p:cNvCxnSpPr/>
          <p:nvPr/>
        </p:nvCxnSpPr>
        <p:spPr>
          <a:xfrm>
            <a:off x="1638000" y="5695920"/>
            <a:ext cx="71172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92" name="TextBox 27"/>
          <p:cNvSpPr/>
          <p:nvPr/>
        </p:nvSpPr>
        <p:spPr>
          <a:xfrm>
            <a:off x="2482920" y="5504040"/>
            <a:ext cx="26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PORTUNITY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3" name="Straight Arrow Connector 29"/>
          <p:cNvCxnSpPr/>
          <p:nvPr/>
        </p:nvCxnSpPr>
        <p:spPr>
          <a:xfrm flipH="1">
            <a:off x="5460480" y="4560480"/>
            <a:ext cx="315360" cy="14468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94" name="Straight Arrow Connector 31"/>
          <p:cNvCxnSpPr/>
          <p:nvPr/>
        </p:nvCxnSpPr>
        <p:spPr>
          <a:xfrm>
            <a:off x="1193400" y="5829480"/>
            <a:ext cx="1645560" cy="4896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zoom dir="in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6" name="Straight Arrow Connector 3"/>
          <p:cNvCxnSpPr>
            <a:endCxn id="1397" idx="0"/>
          </p:cNvCxnSpPr>
          <p:nvPr/>
        </p:nvCxnSpPr>
        <p:spPr>
          <a:xfrm flipH="1">
            <a:off x="2771280" y="805320"/>
            <a:ext cx="1756800" cy="1289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98" name="Straight Arrow Connector 5"/>
          <p:cNvCxnSpPr>
            <a:endCxn id="1399" idx="0"/>
          </p:cNvCxnSpPr>
          <p:nvPr/>
        </p:nvCxnSpPr>
        <p:spPr>
          <a:xfrm>
            <a:off x="4527360" y="806040"/>
            <a:ext cx="1756440" cy="12452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97" name="TextBox 8"/>
          <p:cNvSpPr/>
          <p:nvPr/>
        </p:nvSpPr>
        <p:spPr>
          <a:xfrm>
            <a:off x="1460520" y="2095560"/>
            <a:ext cx="26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econo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TextBox 9"/>
          <p:cNvSpPr/>
          <p:nvPr/>
        </p:nvSpPr>
        <p:spPr>
          <a:xfrm>
            <a:off x="4927680" y="205092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econo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00" name="Straight Arrow Connector 13"/>
          <p:cNvCxnSpPr>
            <a:stCxn id="1397" idx="2"/>
          </p:cNvCxnSpPr>
          <p:nvPr/>
        </p:nvCxnSpPr>
        <p:spPr>
          <a:xfrm>
            <a:off x="2771640" y="2557080"/>
            <a:ext cx="23040" cy="1050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401" name="TextBox 14"/>
          <p:cNvSpPr/>
          <p:nvPr/>
        </p:nvSpPr>
        <p:spPr>
          <a:xfrm>
            <a:off x="1015920" y="3740040"/>
            <a:ext cx="631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ION ECONONO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rupakan bagian dari microeconomics yang mempelajari alokasi sumberdaya dalam proses produksi sehingga diperoleh kondisi opt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TextBox 19"/>
          <p:cNvSpPr/>
          <p:nvPr/>
        </p:nvSpPr>
        <p:spPr>
          <a:xfrm>
            <a:off x="2260440" y="30290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.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2349000" y="317520"/>
            <a:ext cx="45342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ODUKS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upakan proses mengkombinasikan berbagai input dengan suatu teknologi produksi tertentu untuk menghasilkan suatu komod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Outp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ses produk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05" name="Straight Arrow Connector 4"/>
          <p:cNvCxnSpPr/>
          <p:nvPr/>
        </p:nvCxnSpPr>
        <p:spPr>
          <a:xfrm>
            <a:off x="1904760" y="4317480"/>
            <a:ext cx="3245400" cy="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06" name="Straight Arrow Connector 7"/>
          <p:cNvCxnSpPr/>
          <p:nvPr/>
        </p:nvCxnSpPr>
        <p:spPr>
          <a:xfrm flipV="1">
            <a:off x="3680280" y="4408200"/>
            <a:ext cx="3960" cy="311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07" name="Straight Arrow Connector 9"/>
          <p:cNvCxnSpPr/>
          <p:nvPr/>
        </p:nvCxnSpPr>
        <p:spPr>
          <a:xfrm>
            <a:off x="6660720" y="4317480"/>
            <a:ext cx="311760" cy="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p:transition spd="med">
    <p:zoom dir="in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EORI PRODUKSI </a:t>
            </a:r>
            <a:r>
              <a:rPr b="1" lang="en-US" sz="40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enjadi dasar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520560" y="19206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nalisis biaya produks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Konsep Penawaran dari produk yang dihasilk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nalisis harga sumberdaya (input) dan penggunaanny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lokasi sumberdaya diantara berbagai alternatif pengguna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Konsep ttg distribusi balas jasa thd penggunaan sumberday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68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68" fill="hold"/>
                                        <p:tgtEl>
                                          <p:spTgt spid="1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68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76280" y="41400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NPUT PRODUKS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482760" y="1206360"/>
            <a:ext cx="822960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put Variab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lah input yang alternatif penggunaannya bervariasi sesuai dengan alternatif jumlah output yang dihasilk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put Teta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lah input yg penggunaannya tidak berubah walaupun output yang dihasilkan beruba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68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68" fill="hold"/>
                                        <p:tgtEl>
                                          <p:spTgt spid="1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68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7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JANGKA WAKTU PRODUKS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437760" y="1473120"/>
            <a:ext cx="83566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GKA PENDEK (Short Run)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inimal masih ada satu INPUT TETAP;  teknologi tet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GKA PANJANG (Long Run)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emua input menjadi input variabel; teknologi tet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GKA SANGAT PANJANG (Very Long Run)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semua input merupakan input variabel dan teknologi yang dipakai berub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applause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68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68" fill="hold"/>
                                        <p:tgtEl>
                                          <p:spTgt spid="1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68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9:15:17Z</dcterms:created>
  <dc:creator>Sutara Hendrakusumaatmaja</dc:creator>
  <dc:description/>
  <dc:language>en-US</dc:language>
  <cp:lastModifiedBy>XP</cp:lastModifiedBy>
  <dcterms:modified xsi:type="dcterms:W3CDTF">2012-09-06T04:20:13Z</dcterms:modified>
  <cp:revision>93</cp:revision>
  <dc:subject/>
  <dc:title>Slide 1</dc:title>
</cp:coreProperties>
</file>