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E7F-3623-45A3-A887-419C02C8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544-7012-4B9D-B872-05D10AA7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63427-3A41-49B0-B22B-9E9B8727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D690F-2A7D-434E-9601-824C1CC0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71AB2-0E16-4355-86E0-BE23AF84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D5EB2-A606-43BB-BE8A-C55C245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BE210-13F4-40A9-BB44-8A48EE9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FB3C6-478F-446B-B58C-318F08D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4A226-4578-4773-BE90-6AC1F9F9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44456-B48B-4225-B5B4-7F8A8C0A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3C4FD-DDA8-4F2E-AEA1-CEF2BF96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B9A36-006B-4095-96A3-1BEC9D39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068-3988-4E46-9011-6F35584B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83BB3-72DA-4BE4-A379-78DFA07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E2D5C-B563-447B-9495-016AF22A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0BDAD-418F-4082-8EF1-06D69CAA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BF112-1A54-4BFC-8908-0C593EE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DDE8D-D57D-4891-A50D-B59ADFB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ACF13-090D-4288-A7D8-053944C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1EA02-7C87-4DD4-A1FF-D48B4A9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E0321-62B0-4297-BFC0-57C9EBB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D9D98-4DEE-4172-9C42-522FCDB3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0681F-8A56-48ED-B0E8-B59EFA9B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F2C-ACEB-4ACD-A323-95FBC26F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C7363-1484-4E32-A5E0-AD34060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2207F-3C36-4BF9-B507-5D2BF537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CF9EF-83A6-4ED8-BDAB-9D36C492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AFC87-BB02-4785-A0E2-C613477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0CEE3-CE59-446C-8E1B-A48883E2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F5BA-0CF9-44D6-AE48-FC2C05AF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45D6D-FDC8-45E7-99E1-55F072CD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41F78-979F-48E1-928C-E3362F1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BD0E-26CF-4BE0-89B2-9CD9528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2D963-54A4-41FE-913C-A9BAF31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E38C-8A2B-44F6-B3D1-442CEB19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4E1DB-45B9-4FC3-AC3A-B4680C9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EAB57-2850-4111-9E85-82573109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47D08-85E1-4DF3-A616-05B4E202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7820B-8A5C-42AF-9C32-A168A056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69ACE-BCDD-4A86-B6FD-979B141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D974B-DE26-4F8C-866A-73FC9DB1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6B569-C4E6-40FA-94A1-CA339F91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A983F-6D2F-47E8-95BB-37341263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E5E71-151A-413A-8C03-F57EF59D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C1C91-6B21-4A6C-BA93-51CF4D7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A3FD-D53F-4BD7-9D25-1D4B5D63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182D1-4441-49AC-9061-FC95B6C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E3DCD-A38F-483E-9477-4EBE97ED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2A5AF-8067-4532-A095-E34E8320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9ECAB-E936-41B8-94AA-42C51951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0D719-E375-42C2-8CE7-16318813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FB1D2-8B2B-4307-9882-2EAC58F3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18F8C-C862-47DB-868B-048F48C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45F13-8ECC-4327-9B3F-0C95D467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9F6E9-5C70-40F2-9BF3-C83ED1C4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6914D-58AB-4FDD-8659-4184FD11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5792-9532-49C0-9F04-BE77B18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C65A6-C478-48C3-8D12-BFDA30A1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93D46-8764-4CA6-A102-98FE139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6CF71-AB88-423C-949D-F4E0D893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0E31B-FCD7-48B1-8248-476E493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35E0A-4EA6-4614-8A2B-615C7B93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0A0FA-F7F4-4861-9766-41A45878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33342-3214-4D6B-92BD-2D582CAE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1C831-9FB2-4CDA-A86D-2ECC9B1B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44CA9-2632-4226-B987-BB351E24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70FE1-E09A-406C-8E01-0E2C4EC0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6552-F1BF-4481-BDDD-F710C414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193F5-5E54-4B06-A5F3-1005C834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D72FC-D353-4AD6-893C-461F1F62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59CC9-2CB1-4643-B348-56589157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5216B-CEE5-4F8F-B3DF-1475CA5C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BA226-1B41-405F-8AB5-D72597F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5587-9C51-4BB2-A33B-F4F8455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A469A-687B-4D88-872A-8100AB7D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2D291-4288-4833-8BD5-029A2A81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ED380-8521-44BD-85EF-7EE3D816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714A2-B4CD-4614-B035-3EE80E0D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111E-007D-4328-9E01-26F6ACE1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4C42C-1159-49C3-AB24-AFF34DB6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E55A6-5A97-489B-83B8-98F299F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2B9F6-8E2A-4187-9E17-7C1A81CF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4616E-ACFF-4333-8796-6889E225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ED05E-CA3E-40B5-BFC8-147E6476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B12F3-BB68-45E5-8D73-219C26C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46998-2475-4477-BE7A-A677005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D197E-17F8-4EAD-A8BC-66F09CD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C12EC-B15D-479F-B005-8868806F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371F8-C232-4B84-8CE3-90B0369B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8E5C-6D96-4C38-8D1F-41BD99A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7727B-E9F9-4144-B0B4-1621D7A5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B5476-D254-441E-B4D0-BF5AEABF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5ABBE-A668-47EE-B6F1-C6F6EA1A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D5B4C-C43F-4ACF-9E9E-725FA941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8A480-9866-42C4-981B-C147CC25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D3EDB-DE8A-4C7F-A5C9-5F8A451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E7284-67F3-48C7-A436-E62C7887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D2B9E-4B54-4353-BC25-27B71CA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E5F93-0CB8-4C02-ABA9-5E92346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392E7-2D62-4FB9-8CB2-7A32512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95A1-3C11-488D-BC37-AE9E931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0535E-DDEC-4F82-961B-395CC2D8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F68CF-CD84-4D78-B9D5-74A94DBC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66BDC-5C6F-455F-8625-A104B660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DD298-85B6-4DD8-9ACD-5C1929B9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98C83-BAD4-47CE-98CE-4AC4029E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8CD54-B385-4869-AB03-FF42C797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60042-0ABB-4EDB-910A-3881AB95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03583-66D7-4F31-B479-0BCF982A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EFDDB-7011-4C49-B89E-80A92913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FC524-B2F7-44DB-AD94-AE310BA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864-8102-419C-BC29-C2AAB2DB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96D1-1CCF-46ED-A877-ADAA0441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89A2B-88DA-40BC-8E3A-5FBBCCC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12DD3-6725-4F08-BDB2-8E2A1E02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D7897-AD84-4A52-BDBE-EFD8B895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67B67-7523-440D-ACEF-19BC0881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45DF2-8733-4980-92F3-D06B4780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8F63D-836E-4351-9C3D-B06644B3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E4E78-B618-42B3-B405-56521E0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8CB8B-7350-476B-A667-F397A94A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433C4C-D6B8-4C9A-8E12-C6BC6F5F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864FD-7A82-46BE-A3FC-2DF4FF0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0063-F6B0-4110-A1B5-9F4CD9AC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983B3-FE6D-4877-8C0D-3598C974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29E90-5C01-453D-9668-635A8AA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6F663-781D-437F-8FAE-9BB4E37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1F714-CEA3-4EF3-B517-B2E64B55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C3396-AD11-4D6B-8F57-B0A7137E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1FC14-7FED-49C9-B899-725B3FD2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417A7-BE3B-4E3B-B089-7EDA2E83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D9C4D-98A8-4F74-9DA2-1512028F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CF6ED5-AD8F-4729-A150-0B584B8D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BD0B90-FD29-421A-9F75-F6CFCB46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112-9A00-4067-8655-9DCC711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6C1EE-3158-4E7E-A12F-039E8DD1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512BD-D335-4646-8BF9-F1973CA6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31E50-A558-4870-9CC9-02AB004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665F29-E80C-4E5A-BF5E-3534462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B2AA3-D72F-4401-9A9A-4438D46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DE541-8634-4518-A7D2-CE827188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B6ADF-2D77-4120-BADE-098745CF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62DC3-246F-40E4-8464-20B154A6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E661A-2BC0-4D30-97B0-0BA73BF4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8BC43-F29A-46C9-9650-EF16DD49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7270-D14C-4681-B1AD-06408810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D96E3-9939-405B-BC37-C0D4CDED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1B78A-AF72-420F-A40D-76662FC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A1C4D6-B02E-455F-9091-674DC82A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89637-A499-4301-81B5-CEF752DA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E2637-00A8-440E-943F-14EDA46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DF2DA-EB8B-4E6C-B437-2A610E7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AE35C-1F3D-4DAC-80E2-EB0F13E3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01B043-5F70-44E4-92CC-DA9CD070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B13D4-6AA0-419E-9C76-8DA8FC87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6ABEF-4CA7-4AC2-9C87-9B88B70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9B1E-CDEB-4E1D-9F09-624ECDAE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4FF84-54BF-4863-8EB1-08CBC316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2747A-F3DC-4BBE-8575-F3A36D16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8465D-8F59-4C56-9D96-F70A8A7F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6C699-94D7-42E5-802F-4DB3EC83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58E0A-F615-4914-B364-06A46179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0A92C-583C-449F-861F-60804A45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47707-D447-4061-8BD5-5698AB75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389C2-706C-422F-AEC1-547FB9F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5555B-8956-4281-945A-5C787D2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20592-495B-4B4B-B71D-F93B19E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3496D-AB73-4D13-A6C6-22DB0C8C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A83D6B-06C8-4CAF-A7F9-52F2C3F8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B9AA9-5054-4F0A-9E83-DBAC95EC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C04D0A-A626-4603-B636-46A3584B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08F2A-828B-4C5A-BFF9-E686B43D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70FB12-B897-454B-B4C8-CD0FC42C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68F10-2CDF-4021-B203-E962B49B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0BC60-D5F0-4E8F-BE62-6F2E5667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30151D-0068-4D83-8514-3FDE4F99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C5DA1-D8A9-4529-9447-9D2B06C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6976E-57DB-41CE-9CC4-27A00A53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17EC6-8B42-4C08-BF81-5FDC8A1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7D3FD-CEA5-444F-B8AE-5C68E13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A130A5-56FE-4D47-B042-287F75F5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6CABD2-A94A-49B1-8677-3BE89E9A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8769C-3473-4EA5-BF08-7CB3EB85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8C6ACF-1DD6-4FE4-A551-C25E33E5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56BCBD-99D2-4137-82C4-0344C620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F2808-50FF-48F5-A049-CAAA1A9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0D598-9116-4BB5-8DB0-F439F466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98E78-D210-4287-8F55-7EDBC1A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826113-CDB7-4EC0-8685-38523B4F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22DA9-4F28-4260-9CC4-8F5821D8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69996-02E5-4E0D-B595-E215E781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0A4720-FA69-4AE2-ADDE-F3153FFF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BF5638-CA16-43EA-83AD-7DF09E3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97AA34-EA46-4597-84FE-810AD7D6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65DA86-6E8B-475E-A52D-C41CEF3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36EB18-98FE-4E13-9443-44A1867D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79A70C-5707-4575-9761-73C1887F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8536F3-975E-4B4C-9B77-4645274D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D6487D-D8A0-41FA-894A-81742D7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676047-151D-41B2-9C22-24887B3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B0B30-2308-4914-A872-09440516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233911-BA9E-481E-9F04-84F047A2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6E4B58-2ADB-4076-8982-6A40795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55EB1E-7E80-4536-80BA-EC540494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79D864-6F04-41E0-AB18-21622D1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566143-6D53-4DE0-BD69-042F7F5F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9AA3CA-F1BB-4C98-BD88-09431757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48CDD8-A704-4F07-BD71-841943C5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9B24F8-7A85-4B07-8030-13A31000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5EF6C3-5428-400A-90CE-E106B116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ADFB81-AE26-4C42-9B7E-E884892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91678-9CCE-4F6A-988F-039FA28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24C5A6-48D3-40DF-A481-5E07698B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7A3E75-B728-4153-8CF6-F0AC16E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2C1265-DD84-410F-948D-C2FEFC49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A822BA-D17F-46B6-ABFF-ED7A4CC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4ACCD-E14F-4EC5-AEB8-A231868D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BD8014-B391-4C7C-8BFF-26627226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012A3B-1345-4036-8EEC-D30C822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B7D7E0-30BC-4451-90D1-146957C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3733B5-9F96-475A-B31E-5349334E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D74BAB-AEB3-4678-8F37-71F9AFFB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0FF-BB29-4B89-8B55-1C2F332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726E4-5986-4D04-886B-BEA0635D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D7E945-A598-4020-A24D-C1E696D3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E9AC4E-CD9A-4982-B817-F4215EFA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D9AE11-70CE-418E-BCF0-955E260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B388E-09A5-4117-BD16-A82C88FC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F6DCF7-A82F-4196-AC00-A902BA18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E82445-C9A0-4129-A476-92A7A0D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81A2DD-3361-49D0-86AF-1DA3954F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DB5232-6AB0-43FF-BB32-A6B3114F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2A9212-7E8B-40EF-8546-9EC3E22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0148CE-8BC7-4C7F-B3D9-D860DF3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32B13-CC85-4A4D-A96D-01F100A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13E042-6140-4B83-BE8A-5DEB9AAF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E37E2A-A8C4-4B29-BCBB-7059A3A4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CD741F-B1AA-4E6D-B33B-1EB50C33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0C171E-B2EF-4163-A1C7-7A6E65CF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A19633-B12A-4F0B-ACF4-EF71F17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7A3F84-43C4-4366-B2CE-90FABEF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050F90-6B3F-4207-87C2-0576411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BF7F6B-59C8-4B72-9854-38FB1C2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074633-7720-4FE7-AD74-1878560E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F30E2F-9F5B-4FF5-AA2D-BF6FEB2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4BEA7-743D-4ED2-A01E-1C0ED51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9E1489-524E-480E-952F-F11BC358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3C8EE2-9C14-4A22-A9BC-FF3BA32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A07CD3-1270-40C3-B6BB-A315DF98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5D570D-4C3A-48D4-899A-9640E2B6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77AEEF-82F5-419C-ABE4-5961C4C8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30C1D46-BA66-4272-B70E-2DB41710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5134E8-955E-4AC9-AEC1-8170C17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57AF37A-E178-4C8B-A1B2-A524D1B2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859A04-35B7-4B07-953A-19999110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2732FD8-8DB9-43FA-9ABB-07063E5E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6FAA5-AA5F-4AD4-A8E9-B509A00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53D6143-D46D-4D3E-B526-9DFF9B20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971D47C-74F1-4A74-BBC1-CD99D741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DCE837D-8411-452C-BC71-A1685E1A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31AF7BB-7A24-4F0F-BCBC-D88299E3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E12772-6499-4E60-B3FB-0C8EBED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A3D37AE-11FE-426A-B19D-30C7D354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8198148-1B86-468F-A428-34652640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C625C31-4379-40B0-B1DD-4C74ACE9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541FFFF-797E-4193-BF57-A271E9D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50F093C-7154-40CC-9372-7C5A03E2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0F71F-1833-48C3-9D60-4618C38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0F588BC-70B9-4F86-8B90-D72CD2A6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D42E088-DAB8-46E8-A6C0-81B406F3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693915A-57DF-46D2-BB27-2D73CD7A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15ADA0E-5486-42EC-AC0A-34962A9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F0C46D-E035-4F06-BFD8-FD8B850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530733A-25E2-473C-8167-6C0ED9B4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4E23FDF-25CB-46B2-A0D5-CA44E5A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2491E0-27AC-434D-B175-2E0D5D89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8345DEB-F31A-4262-9645-C503EF23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FFA9269-CD2B-4D5B-B43E-C568D912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FEE3C-6680-4A46-B861-E1BBE53B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97BD2BD-133B-4EC9-9FA7-40F2C7DD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C0A2875-25AB-483B-B1BE-2749FA8D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0D2B428-A9F8-4733-8DC7-0A6D02B7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A8451EB-475B-4F95-A0BE-82217E93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0D556BD-DCA4-4027-81F1-A96227FE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1990EFA-F971-4D35-AD02-D83DE7F5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E1C9B2D-BFE4-4280-864E-BA0E46D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AB9C52B-6F60-44CF-8821-1F73C8E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1F77B44-8D12-45DC-A9F1-FEBCF8C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0A392E1-6A8E-475A-ABB2-06CEA1F4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9BE1E-BD1C-49CC-B7EB-89A96CB8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652B765-1F50-4A4F-B77F-A067FD4A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65FF8C8-186A-4E4C-AA6F-2DD86431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211CEC0-848B-438F-BE75-95DA2F43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161DE23-3576-4F8F-9D65-54CAC3A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EF809F8-0ECB-47B5-8906-48BB346E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4168AEA-20D2-4F1F-9440-F52233C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A7A5522-6F45-4555-BAE4-F80EC55E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B0A7571-EDD4-41B4-9CDE-57F8A505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9D4F10D-1298-49DA-BF4E-A18901B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25CCB72-F1F9-4F19-998F-2E1F9E1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92F9-8BF3-443C-B6A3-6EF1CDD3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69E40C1-3A90-4CE4-B5F4-698FF88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34B4F3A-7B5C-425B-B1B5-DD44963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48F927D-634D-4765-9F5E-BBD91223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7A40560-F578-46F4-B953-06AAA041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54FCE71-42D3-4BE8-A139-C7B810FA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6E54621-051E-438D-920C-A24250B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AF621A1-ED26-420A-9AA7-6A3CEC49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5C522E8-3A09-46B8-A39A-3DE502B4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1234E41-204D-4C21-93E9-305AB651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DA8CF94-FBFB-4CE8-A3EB-A7A8C01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EB39A-C321-4A01-B063-37EBCF4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0955096-598D-45D2-A408-9812C1E9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4CF109-4C2B-4E9A-AE2F-7B49E091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0066095-5EFD-4BA3-8858-78C18B0B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CFA3C8-0223-45E4-A039-703BE3DA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8435982-7E89-4696-8BB1-7DFFEE80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F227722-4A24-4741-BBA5-1ADAB5D3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16FB519-96C6-461D-A7BC-3B8270F8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7B08777-B8B6-403A-8070-31CB8B1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703322C-9DF4-404D-BFF4-C2DF3C50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7356650-1F92-4BD7-95DE-89A59EF8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325D-1827-4175-A434-0056A0A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0F7A4A5-68E1-4D5B-8E17-0C16A54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55C8F3D-E366-4E68-8EDC-30D632C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93F2FBB-E9EE-4D53-B441-C1D471E9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9A47C48-04A8-49FA-8BC1-238D7C3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26735E3-C41B-4336-B4C9-8D10A26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13C0F9E-3CB2-4DEE-A9B8-D7C15803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C86B974-DD02-43C0-AFD0-9A713D9D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0C78604-712B-44A0-915C-6737AEEE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02D2870-3457-4D06-8B32-F64FF93B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D100EBB-DD3A-4280-A197-ADF24917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F93-39D3-4D64-A965-C6A5B53E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E865-E956-4144-AC8C-2B81DA0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3D49EC6-22CF-4B28-A060-BA8632C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3B15280-4DE9-42C9-898F-8A64248E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BB383AE-C06D-465C-9083-3AC14E46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C9843CF-2CE4-4724-AE11-4254A83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A39FC62-701B-4CE4-A444-250CD54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4142A97-6925-4059-9811-C91BC354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B6A1E06-2943-42C0-B881-68135D73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9AB2245-CD7B-4A2B-A869-4A1ED03B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AC907E0-C434-4122-B158-44EFDBD5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8DFB226-B6E6-482F-A933-94C3571C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4FF2-D6F9-4ABA-93A5-F0356D6D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77695F-7791-4D83-913C-1F5318F1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1BA11CD-93CE-4538-838D-4769514A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2C0CAA-D234-4CAC-B562-74560317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670EF20-9913-4C81-923C-98ABB190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9598F24-32B3-4EF7-A94A-89563D9D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A8DB468-6D63-4E28-80E2-C091444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2401CB8-302E-4733-8488-E35E05D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40195DD-C739-47E6-9764-A970056D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503271C-09DF-4603-A789-B0C092F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F8C60E-11D9-43EA-B645-4682182A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3877-8418-419F-A56F-FDA66014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E53A9C-8A48-4BFF-94FF-EAB861B1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4DE7B6F-993E-444A-8418-104318C9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644D800-7F43-437D-85C4-13B0788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94C5145-84E5-45F2-9A99-ED77C8CD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DB6AF87-302C-411C-8DC1-BE991D2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E8C718D-E734-4E94-BD12-1DD56B3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8FEE769-B1A8-4718-819E-86D0854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60B97D6-591F-40B0-A705-3651694E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32B3383-AD00-439F-8DBA-E783BEA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534205B-55E2-432E-8A55-E73E0FAB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0C34-7AAC-4F37-A225-ECAB66E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C7E6B6E-8FF4-413D-B80D-EFF70D55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8FEDDA0-8FDA-4A10-B86A-460956C6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0623B0B-11DB-48F5-B32B-A1EF8E32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FB42744-959C-46D4-ADC4-C9AA132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7F9807F-EFEC-433C-A588-229F62A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22F59A-7583-44D6-9CDB-ED079AED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BC47A68-F755-4430-A9D6-192038E3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3CDDCCD-74C4-4F18-8CB4-07CCAB1A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29A2B3C-E624-469A-BEF5-25FDAEE7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783AAD6-DCCC-4422-A780-6F9AC7C6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EB60-D5B9-4ABC-A98C-AAEEE0D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C06BB8-7A47-4315-AD0E-5B49DD0E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5DA3C56-8743-4842-9837-F311318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DD571C1-9396-486B-955F-960D3DD6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5433C4E-C1BE-4440-97C9-3E3C9BAB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528721D-0466-4C71-A332-FA8C1FA9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F53C-14CF-43E3-8798-027C646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0CB7-AF0E-4A05-9AD8-FCA831F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1186-61A1-45B3-A98D-0035CB99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80FD-E848-4775-BCF6-2A9A0180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9B44-5082-4823-8C9D-735961D0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2DF-5E83-4E0C-ABD3-A55FB041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DD01-810C-4BA8-A7AF-66E7D45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9F9F-BF2C-4DA3-8B95-0144E9D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A012-00AE-42B9-ACC0-E95853C5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5C6C-154F-45A7-A05E-6F14A838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D618-0D3C-453C-8FC7-B44483E3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6DFC-A6BA-426E-A653-F5779B0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F129-39D6-44A4-8E60-FD0EA50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26EBC-7154-4895-BA97-21E25BD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A0A2-D761-4776-BA43-DF473A30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DACF7-DF0C-4A24-80EB-DA02668D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6F9-E5A2-4FF4-8F2A-C2B927FB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02275-CF20-4D38-998F-1BC3B19F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3D9D-50EA-43C6-8F75-2D56DC06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D701-EFD5-41B3-9199-B7C0F48B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6A6B-81D9-4A05-A013-9F8934F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CA63-8AFF-4086-BD96-441DA09C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821A1-B888-4554-97BD-6F2F7AD4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3271-5565-4B92-A2C3-70E0670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FA5C-96AB-4F19-9ED6-8A8722F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9013B-BD77-4D0C-8C04-7AC54874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BE01-8B9F-4DD1-9F43-B667A4D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051-171D-4AFE-BA12-0A5F4C36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BE46-2F6F-43EA-90C4-175A006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652C-401F-4039-8DBD-FA45B192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B3BFC-4847-4E08-91E1-43721B81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7B9E2-145F-4F3A-B522-FC780594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5F39-4FC3-4F71-BE7A-875F22B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158E9-2DB2-4E1A-B821-7E44931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4E07-584E-4C99-B72D-9E9F67F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D648A-9DE3-4769-AB67-C7E44E0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06E6E-66A8-4968-A7E5-30FD314A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7B5A-6421-432E-B0E4-B8792E8E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2DB-916E-4FD4-8E32-5021EDD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D864-D850-4314-8328-6B5DEA19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9307-2207-4809-9BA7-DADCFE0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22FC-9A1A-4E8C-9F1D-AEDDD3DA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139DC-82F9-4F60-BB15-45471414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9E00-AFF4-491F-A5B9-3EF101F6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0B84D-7FBE-4C6D-B2C4-49E1AA30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E898-04DD-4449-8119-DD1C1316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9163-48CD-4A26-B959-DEA93AFF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FE19-58BA-4682-AA1F-FF8E26CF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34A71-D39E-4D68-B0C5-EF2A05F3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9D3-0092-41E4-A05E-25605C0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74DAD-F304-41BF-962B-A31DB28C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366C-53FA-4333-80CA-FC0181F1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A853A-1FE5-49A9-BDD9-343F73FC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C16D1-D9AA-403F-B166-9E65F5BD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8F638-10FF-4FA6-8716-FBF0350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5B292-C223-448F-B0BA-A77AC5AC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4B86-820F-4BA7-AA68-EB2EAD69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EE7A2-16EE-4BBA-9EDE-82DC6C6E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75859-DCC4-477E-BEE6-775CB8C7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E63F0-B239-4E5D-87FC-72142C39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9143-B075-456D-94A5-2A7E51F7F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DEB0-C9D9-4AC7-825B-D796E2BEA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C2EE-4183-4DC4-97BC-D4246F57B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6D4F-D075-445B-A63F-CCA2086B4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2E46-8B53-42C0-B31E-53D15BB40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E538-456D-4AE0-B2C5-1D42DFE3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35AE-C444-498C-9CA6-6EDF7707F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6E5-8F7E-4F7D-8849-72D30305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9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AC2-2641-4110-BFE8-7E9F5665B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4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704B-0395-4C95-9661-8DAF9548C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9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127F-3916-43AF-BE60-37F04588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B0CC-FD4F-4D03-A16F-C758504F4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8110-8A55-4246-B6C2-33D76F979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9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8D21-204D-4252-84C5-27643F7B2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4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7CEF-146D-4725-A70A-EB5A2B1F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6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6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A5D-E41B-4267-972B-77C55781C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4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7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7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7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B06-A6FC-4D3F-8EA9-F99A84AC3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9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7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7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7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023E-8B03-4954-B566-26E75E42A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7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7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7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8F39-9842-4DFD-AA2C-3C4F253A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9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CC22-2EAC-4530-ABB8-B544CC3BE8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5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8C3-CCBF-43AF-BE72-7BC8599DE1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dt" idx="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2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120-6DE9-44BD-B980-ED79C13354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dt" idx="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2255-D26A-425F-A557-691CED2A19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8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33BB-7FA7-4C06-938A-B168157189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dt" idx="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4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AFD-FEBB-49B6-BFBB-D8B4E926A6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 type="dt" idx="9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1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ftr" idx="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A525-55C4-4DB0-A9C1-580BB2DD90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dt" idx="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7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DFB0-EE99-41AA-A915-5706E17E19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 type="dt" idx="9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3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 type="ftr" idx="1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87DF-A3F9-42C2-9D82-E85652762C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 type="dt" idx="1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ftr" idx="1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1EE-BAE9-41F3-8ADE-B7C4717675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dt" idx="10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7DBF-C9F5-4567-8035-4B4F5A3FE9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 type="dt" idx="1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2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 type="sldNum" idx="1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B6B6-6A3D-49A6-A08F-3C1AAC0D58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 type="dt" idx="1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3D3-2AC7-437A-A4D5-80C1AB079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7E37-19B1-43B4-A714-8F1F58597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510-5381-4732-A7B3-715134C01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15CA-2B05-486C-93D3-91C98520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0254-6812-45AD-AD77-9BA3B41AE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BDFD-63B6-4F71-ADB5-70856054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566640" y="1428480"/>
            <a:ext cx="8251920" cy="328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TIMALISASI PRODUKSI DENGAN SATU INPUT VARIABEL 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8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3" name=""/>
          <p:cNvGraphicFramePr/>
          <p:nvPr/>
        </p:nvGraphicFramePr>
        <p:xfrm>
          <a:off x="388800" y="0"/>
          <a:ext cx="8366400" cy="6686640"/>
        </p:xfrm>
        <a:graphic>
          <a:graphicData uri="http://schemas.openxmlformats.org/drawingml/2006/table">
            <a:tbl>
              <a:tblPr/>
              <a:tblGrid>
                <a:gridCol w="1352520"/>
                <a:gridCol w="1401840"/>
                <a:gridCol w="1403280"/>
                <a:gridCol w="1403640"/>
                <a:gridCol w="1401480"/>
                <a:gridCol w="140364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 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/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4" name=""/>
          <p:cNvGraphicFramePr/>
          <p:nvPr/>
        </p:nvGraphicFramePr>
        <p:xfrm>
          <a:off x="388800" y="0"/>
          <a:ext cx="8366400" cy="6662880"/>
        </p:xfrm>
        <a:graphic>
          <a:graphicData uri="http://schemas.openxmlformats.org/drawingml/2006/table">
            <a:tbl>
              <a:tblPr/>
              <a:tblGrid>
                <a:gridCol w="1352520"/>
                <a:gridCol w="1401840"/>
                <a:gridCol w="1403280"/>
                <a:gridCol w="1403640"/>
                <a:gridCol w="1401480"/>
                <a:gridCol w="140364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 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/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  <p:sndAc>
      <p:stSnd>
        <p:snd r:embed="rId1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5" name=""/>
          <p:cNvGraphicFramePr/>
          <p:nvPr/>
        </p:nvGraphicFramePr>
        <p:xfrm>
          <a:off x="318960" y="198360"/>
          <a:ext cx="8506080" cy="6459480"/>
        </p:xfrm>
        <a:graphic>
          <a:graphicData uri="http://schemas.openxmlformats.org/drawingml/2006/table">
            <a:tbl>
              <a:tblPr/>
              <a:tblGrid>
                <a:gridCol w="1216080"/>
                <a:gridCol w="1214640"/>
                <a:gridCol w="1215720"/>
                <a:gridCol w="1213200"/>
                <a:gridCol w="1215720"/>
                <a:gridCol w="1214640"/>
                <a:gridCol w="12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x  = 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6" name="Line 99"/>
          <p:cNvSpPr/>
          <p:nvPr/>
        </p:nvSpPr>
        <p:spPr>
          <a:xfrm>
            <a:off x="297000" y="1359000"/>
            <a:ext cx="855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200"/>
          <p:cNvSpPr/>
          <p:nvPr/>
        </p:nvSpPr>
        <p:spPr>
          <a:xfrm>
            <a:off x="4122720" y="414360"/>
            <a:ext cx="898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201"/>
          <p:cNvSpPr/>
          <p:nvPr/>
        </p:nvSpPr>
        <p:spPr>
          <a:xfrm>
            <a:off x="341280" y="684360"/>
            <a:ext cx="8461440" cy="4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9" name=""/>
          <p:cNvGraphicFramePr/>
          <p:nvPr/>
        </p:nvGraphicFramePr>
        <p:xfrm>
          <a:off x="318960" y="198360"/>
          <a:ext cx="8506080" cy="6459480"/>
        </p:xfrm>
        <a:graphic>
          <a:graphicData uri="http://schemas.openxmlformats.org/drawingml/2006/table">
            <a:tbl>
              <a:tblPr/>
              <a:tblGrid>
                <a:gridCol w="1216080"/>
                <a:gridCol w="1214640"/>
                <a:gridCol w="1215720"/>
                <a:gridCol w="1213200"/>
                <a:gridCol w="1215720"/>
                <a:gridCol w="1214640"/>
                <a:gridCol w="12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x  = 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0" name="Line 92"/>
          <p:cNvSpPr/>
          <p:nvPr/>
        </p:nvSpPr>
        <p:spPr>
          <a:xfrm>
            <a:off x="297000" y="126828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108"/>
          <p:cNvSpPr/>
          <p:nvPr/>
        </p:nvSpPr>
        <p:spPr>
          <a:xfrm>
            <a:off x="4122720" y="414360"/>
            <a:ext cx="898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109"/>
          <p:cNvSpPr/>
          <p:nvPr/>
        </p:nvSpPr>
        <p:spPr>
          <a:xfrm>
            <a:off x="341280" y="728640"/>
            <a:ext cx="85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31280" y="272520"/>
            <a:ext cx="83854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OPTIMALISASI PRODUKS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6280" y="1403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ngkat produksi maksimum belum tentu sama dengan tingkat produksi opt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hasan tingkat produksi maksimum semata-mata bersifat tek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hasan tingkat produksi optimum menyangkut pembahasan EFISIENSI EKONOMI.  Pada produksi optimum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MAKS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18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31280" y="183960"/>
            <a:ext cx="8385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TINGKAT PRODUKSI OPTIMUM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836280" y="1294920"/>
            <a:ext cx="800748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Y.Py – X.Px – F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&lt; 0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pe NPM &lt; Slope 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Text Box 4"/>
          <p:cNvSpPr/>
          <p:nvPr/>
        </p:nvSpPr>
        <p:spPr>
          <a:xfrm>
            <a:off x="1015920" y="2006640"/>
            <a:ext cx="7947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Total Produks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y = Harga/unit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x = Harga/unit X  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Jumlah in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C = Biaya Te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ar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maksim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f’(X).Py – Px = 0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’(X).Py = 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.Py = Px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PM = P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tau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M = Px/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 pada Produksi Opt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5"/>
          <p:cNvSpPr/>
          <p:nvPr/>
        </p:nvSpPr>
        <p:spPr>
          <a:xfrm>
            <a:off x="1241280" y="1854360"/>
            <a:ext cx="0" cy="382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6"/>
          <p:cNvSpPr/>
          <p:nvPr/>
        </p:nvSpPr>
        <p:spPr>
          <a:xfrm>
            <a:off x="1241280" y="5678640"/>
            <a:ext cx="486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>
            <a:off x="1197000" y="4194000"/>
            <a:ext cx="4275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Arc 8"/>
          <p:cNvSpPr/>
          <p:nvPr/>
        </p:nvSpPr>
        <p:spPr>
          <a:xfrm rot="10800000">
            <a:off x="2185560" y="1942920"/>
            <a:ext cx="3915000" cy="2906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3581280" y="4194000"/>
            <a:ext cx="0" cy="148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10"/>
          <p:cNvSpPr/>
          <p:nvPr/>
        </p:nvSpPr>
        <p:spPr>
          <a:xfrm>
            <a:off x="5742000" y="58150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11"/>
          <p:cNvSpPr/>
          <p:nvPr/>
        </p:nvSpPr>
        <p:spPr>
          <a:xfrm>
            <a:off x="0" y="194328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 ;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12"/>
          <p:cNvSpPr/>
          <p:nvPr/>
        </p:nvSpPr>
        <p:spPr>
          <a:xfrm>
            <a:off x="880920" y="58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 Box 13"/>
          <p:cNvSpPr/>
          <p:nvPr/>
        </p:nvSpPr>
        <p:spPr>
          <a:xfrm>
            <a:off x="522360" y="3968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14"/>
          <p:cNvSpPr/>
          <p:nvPr/>
        </p:nvSpPr>
        <p:spPr>
          <a:xfrm>
            <a:off x="3716280" y="378936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PM =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15"/>
          <p:cNvSpPr/>
          <p:nvPr/>
        </p:nvSpPr>
        <p:spPr>
          <a:xfrm>
            <a:off x="2411280" y="2079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16"/>
          <p:cNvSpPr/>
          <p:nvPr/>
        </p:nvSpPr>
        <p:spPr>
          <a:xfrm>
            <a:off x="1736640" y="5815080"/>
            <a:ext cx="36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pada produksi 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7"/>
          <p:cNvSpPr/>
          <p:nvPr/>
        </p:nvSpPr>
        <p:spPr>
          <a:xfrm flipV="1">
            <a:off x="2592360" y="5994000"/>
            <a:ext cx="85428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18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ek perubahan Py ;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abila Py naik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kan menggeser NPM ke kanan.  Jika Px tetap maka jumlah X yang men</a:t>
            </a: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ilkan Y optimum bertambah (sebalikny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a Px naik ; Py tetap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yang menghasilkan Y optimum bertambah ke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a Px dan Py berubah bersamaan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yang menghasilkan Y optimum tergantung pada rasio harga input (Px) dan harga output (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19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72520" y="27900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y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 X  pada Produksi Optim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3"/>
          <p:cNvSpPr/>
          <p:nvPr/>
        </p:nvSpPr>
        <p:spPr>
          <a:xfrm>
            <a:off x="1241280" y="1854360"/>
            <a:ext cx="0" cy="382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4"/>
          <p:cNvSpPr/>
          <p:nvPr/>
        </p:nvSpPr>
        <p:spPr>
          <a:xfrm>
            <a:off x="1241280" y="5678640"/>
            <a:ext cx="486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5"/>
          <p:cNvSpPr/>
          <p:nvPr/>
        </p:nvSpPr>
        <p:spPr>
          <a:xfrm>
            <a:off x="1197000" y="4194000"/>
            <a:ext cx="494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Arc 6"/>
          <p:cNvSpPr/>
          <p:nvPr/>
        </p:nvSpPr>
        <p:spPr>
          <a:xfrm rot="10800000">
            <a:off x="2185560" y="1942920"/>
            <a:ext cx="3915000" cy="2906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7"/>
          <p:cNvSpPr/>
          <p:nvPr/>
        </p:nvSpPr>
        <p:spPr>
          <a:xfrm>
            <a:off x="3581280" y="4194000"/>
            <a:ext cx="0" cy="148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8"/>
          <p:cNvSpPr/>
          <p:nvPr/>
        </p:nvSpPr>
        <p:spPr>
          <a:xfrm>
            <a:off x="5742000" y="58150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9"/>
          <p:cNvSpPr/>
          <p:nvPr/>
        </p:nvSpPr>
        <p:spPr>
          <a:xfrm>
            <a:off x="0" y="194328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 ;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 Box 10"/>
          <p:cNvSpPr/>
          <p:nvPr/>
        </p:nvSpPr>
        <p:spPr>
          <a:xfrm>
            <a:off x="880920" y="58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11"/>
          <p:cNvSpPr/>
          <p:nvPr/>
        </p:nvSpPr>
        <p:spPr>
          <a:xfrm>
            <a:off x="522360" y="3968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13"/>
          <p:cNvSpPr/>
          <p:nvPr/>
        </p:nvSpPr>
        <p:spPr>
          <a:xfrm>
            <a:off x="1601640" y="1628640"/>
            <a:ext cx="10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14"/>
          <p:cNvSpPr/>
          <p:nvPr/>
        </p:nvSpPr>
        <p:spPr>
          <a:xfrm>
            <a:off x="1736640" y="5815080"/>
            <a:ext cx="36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X2                X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pada produksi 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5"/>
          <p:cNvSpPr/>
          <p:nvPr/>
        </p:nvSpPr>
        <p:spPr>
          <a:xfrm flipV="1">
            <a:off x="2592360" y="5994000"/>
            <a:ext cx="85428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Arc 16"/>
          <p:cNvSpPr/>
          <p:nvPr/>
        </p:nvSpPr>
        <p:spPr>
          <a:xfrm rot="10800000">
            <a:off x="1646280" y="2528640"/>
            <a:ext cx="3914640" cy="2906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Arc 17"/>
          <p:cNvSpPr/>
          <p:nvPr/>
        </p:nvSpPr>
        <p:spPr>
          <a:xfrm rot="10800000">
            <a:off x="2727360" y="1537920"/>
            <a:ext cx="3914640" cy="2906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8"/>
          <p:cNvSpPr/>
          <p:nvPr/>
        </p:nvSpPr>
        <p:spPr>
          <a:xfrm>
            <a:off x="2322360" y="4194000"/>
            <a:ext cx="0" cy="148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9"/>
          <p:cNvSpPr/>
          <p:nvPr/>
        </p:nvSpPr>
        <p:spPr>
          <a:xfrm>
            <a:off x="4976640" y="4194000"/>
            <a:ext cx="0" cy="148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Text Box 20"/>
          <p:cNvSpPr/>
          <p:nvPr/>
        </p:nvSpPr>
        <p:spPr>
          <a:xfrm>
            <a:off x="2592360" y="1449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 Box 21"/>
          <p:cNvSpPr/>
          <p:nvPr/>
        </p:nvSpPr>
        <p:spPr>
          <a:xfrm>
            <a:off x="1015920" y="2349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22"/>
          <p:cNvSpPr/>
          <p:nvPr/>
        </p:nvSpPr>
        <p:spPr>
          <a:xfrm flipH="1" flipV="1">
            <a:off x="2322000" y="6129000"/>
            <a:ext cx="179640" cy="13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23"/>
          <p:cNvSpPr/>
          <p:nvPr/>
        </p:nvSpPr>
        <p:spPr>
          <a:xfrm flipV="1">
            <a:off x="4437000" y="6129360"/>
            <a:ext cx="360360" cy="2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24"/>
          <p:cNvSpPr/>
          <p:nvPr/>
        </p:nvSpPr>
        <p:spPr>
          <a:xfrm flipV="1">
            <a:off x="2276640" y="3564000"/>
            <a:ext cx="315720" cy="2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25"/>
          <p:cNvSpPr/>
          <p:nvPr/>
        </p:nvSpPr>
        <p:spPr>
          <a:xfrm flipV="1">
            <a:off x="2816280" y="3158640"/>
            <a:ext cx="315720" cy="22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26"/>
          <p:cNvSpPr/>
          <p:nvPr/>
        </p:nvSpPr>
        <p:spPr>
          <a:xfrm>
            <a:off x="2502000" y="5364000"/>
            <a:ext cx="76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27"/>
          <p:cNvSpPr/>
          <p:nvPr/>
        </p:nvSpPr>
        <p:spPr>
          <a:xfrm>
            <a:off x="3807000" y="5454720"/>
            <a:ext cx="76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68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68" fill="hold"/>
                                        <p:tgtEl>
                                          <p:spTgt spid="19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68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297000" y="274320"/>
            <a:ext cx="85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x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 X  pada Produksi Optim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3"/>
          <p:cNvSpPr/>
          <p:nvPr/>
        </p:nvSpPr>
        <p:spPr>
          <a:xfrm>
            <a:off x="1241280" y="1854360"/>
            <a:ext cx="0" cy="382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4"/>
          <p:cNvSpPr/>
          <p:nvPr/>
        </p:nvSpPr>
        <p:spPr>
          <a:xfrm>
            <a:off x="1241280" y="5678640"/>
            <a:ext cx="486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5"/>
          <p:cNvSpPr/>
          <p:nvPr/>
        </p:nvSpPr>
        <p:spPr>
          <a:xfrm>
            <a:off x="1285920" y="4194000"/>
            <a:ext cx="494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7"/>
          <p:cNvSpPr/>
          <p:nvPr/>
        </p:nvSpPr>
        <p:spPr>
          <a:xfrm>
            <a:off x="3581280" y="504972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5742000" y="58150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0" y="194328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 ;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880920" y="58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41280" y="4824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 Box 14"/>
          <p:cNvSpPr/>
          <p:nvPr/>
        </p:nvSpPr>
        <p:spPr>
          <a:xfrm>
            <a:off x="1736640" y="5815080"/>
            <a:ext cx="36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X2                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pada produksi 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"/>
          <p:cNvSpPr/>
          <p:nvPr/>
        </p:nvSpPr>
        <p:spPr>
          <a:xfrm flipV="1">
            <a:off x="2592360" y="5994000"/>
            <a:ext cx="85428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Arc 16"/>
          <p:cNvSpPr/>
          <p:nvPr/>
        </p:nvSpPr>
        <p:spPr>
          <a:xfrm rot="10800000">
            <a:off x="1646280" y="2528640"/>
            <a:ext cx="3914640" cy="2906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8"/>
          <p:cNvSpPr/>
          <p:nvPr/>
        </p:nvSpPr>
        <p:spPr>
          <a:xfrm>
            <a:off x="2322360" y="4194000"/>
            <a:ext cx="0" cy="148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9"/>
          <p:cNvSpPr/>
          <p:nvPr/>
        </p:nvSpPr>
        <p:spPr>
          <a:xfrm>
            <a:off x="4976640" y="54547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21"/>
          <p:cNvSpPr/>
          <p:nvPr/>
        </p:nvSpPr>
        <p:spPr>
          <a:xfrm>
            <a:off x="1015920" y="2349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22"/>
          <p:cNvSpPr/>
          <p:nvPr/>
        </p:nvSpPr>
        <p:spPr>
          <a:xfrm flipH="1" flipV="1">
            <a:off x="2322000" y="6129000"/>
            <a:ext cx="179640" cy="13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23"/>
          <p:cNvSpPr/>
          <p:nvPr/>
        </p:nvSpPr>
        <p:spPr>
          <a:xfrm flipV="1">
            <a:off x="4437000" y="6129360"/>
            <a:ext cx="360360" cy="2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26"/>
          <p:cNvSpPr/>
          <p:nvPr/>
        </p:nvSpPr>
        <p:spPr>
          <a:xfrm>
            <a:off x="1285920" y="5049720"/>
            <a:ext cx="494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27"/>
          <p:cNvSpPr/>
          <p:nvPr/>
        </p:nvSpPr>
        <p:spPr>
          <a:xfrm>
            <a:off x="1285920" y="5408640"/>
            <a:ext cx="494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8"/>
          <p:cNvSpPr/>
          <p:nvPr/>
        </p:nvSpPr>
        <p:spPr>
          <a:xfrm>
            <a:off x="297000" y="3968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29"/>
          <p:cNvSpPr/>
          <p:nvPr/>
        </p:nvSpPr>
        <p:spPr>
          <a:xfrm>
            <a:off x="297000" y="5273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30"/>
          <p:cNvSpPr/>
          <p:nvPr/>
        </p:nvSpPr>
        <p:spPr>
          <a:xfrm>
            <a:off x="1511280" y="441972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31"/>
          <p:cNvSpPr/>
          <p:nvPr/>
        </p:nvSpPr>
        <p:spPr>
          <a:xfrm>
            <a:off x="1467000" y="513864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32"/>
          <p:cNvSpPr/>
          <p:nvPr/>
        </p:nvSpPr>
        <p:spPr>
          <a:xfrm flipH="1">
            <a:off x="3806640" y="5543640"/>
            <a:ext cx="94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33"/>
          <p:cNvSpPr/>
          <p:nvPr/>
        </p:nvSpPr>
        <p:spPr>
          <a:xfrm flipH="1">
            <a:off x="2501640" y="554364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68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68" fill="hold"/>
                                        <p:tgtEl>
                                          <p:spTgt spid="19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68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72520" y="27900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Py </a:t>
            </a:r>
            <a:r>
              <a:rPr b="1" lang="en-US" sz="3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 &amp; Px </a:t>
            </a:r>
            <a:r>
              <a:rPr b="1" lang="en-US" sz="3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id-ID" sz="3800" spc="-1" strike="noStrike">
                <a:solidFill>
                  <a:srgbClr val="ffffcc"/>
                </a:solidFill>
                <a:latin typeface="Tahoma"/>
              </a:rPr>
              <a:t>--&gt; 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X pada Produksi Optimum</a:t>
            </a:r>
            <a:r>
              <a:rPr b="1" lang="id-ID" sz="3800" spc="-1" strike="noStrike">
                <a:solidFill>
                  <a:srgbClr val="ffffcc"/>
                </a:solidFill>
                <a:latin typeface="Tahoma"/>
              </a:rPr>
              <a:t> berubah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0" name="Line 3"/>
          <p:cNvSpPr/>
          <p:nvPr/>
        </p:nvSpPr>
        <p:spPr>
          <a:xfrm>
            <a:off x="1241280" y="1854360"/>
            <a:ext cx="0" cy="3825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4"/>
          <p:cNvSpPr/>
          <p:nvPr/>
        </p:nvSpPr>
        <p:spPr>
          <a:xfrm>
            <a:off x="1241280" y="5678640"/>
            <a:ext cx="486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5"/>
          <p:cNvSpPr/>
          <p:nvPr/>
        </p:nvSpPr>
        <p:spPr>
          <a:xfrm>
            <a:off x="1285920" y="4869000"/>
            <a:ext cx="4681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7"/>
          <p:cNvSpPr/>
          <p:nvPr/>
        </p:nvSpPr>
        <p:spPr>
          <a:xfrm>
            <a:off x="3176640" y="4869000"/>
            <a:ext cx="0" cy="81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 Box 8"/>
          <p:cNvSpPr/>
          <p:nvPr/>
        </p:nvSpPr>
        <p:spPr>
          <a:xfrm>
            <a:off x="5742000" y="58150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9"/>
          <p:cNvSpPr/>
          <p:nvPr/>
        </p:nvSpPr>
        <p:spPr>
          <a:xfrm>
            <a:off x="0" y="194328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 ;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 Box 10"/>
          <p:cNvSpPr/>
          <p:nvPr/>
        </p:nvSpPr>
        <p:spPr>
          <a:xfrm>
            <a:off x="880920" y="58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Text Box 11"/>
          <p:cNvSpPr/>
          <p:nvPr/>
        </p:nvSpPr>
        <p:spPr>
          <a:xfrm>
            <a:off x="431640" y="3968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Text Box 13"/>
          <p:cNvSpPr/>
          <p:nvPr/>
        </p:nvSpPr>
        <p:spPr>
          <a:xfrm>
            <a:off x="1736640" y="5815080"/>
            <a:ext cx="36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pada produksi 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4"/>
          <p:cNvSpPr/>
          <p:nvPr/>
        </p:nvSpPr>
        <p:spPr>
          <a:xfrm flipV="1">
            <a:off x="2637000" y="5994360"/>
            <a:ext cx="314280" cy="270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Arc 15"/>
          <p:cNvSpPr/>
          <p:nvPr/>
        </p:nvSpPr>
        <p:spPr>
          <a:xfrm rot="10800000">
            <a:off x="1646280" y="2528640"/>
            <a:ext cx="3914640" cy="2906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Arc 16"/>
          <p:cNvSpPr/>
          <p:nvPr/>
        </p:nvSpPr>
        <p:spPr>
          <a:xfrm rot="10800000">
            <a:off x="2851200" y="1539360"/>
            <a:ext cx="3789360" cy="286416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17"/>
          <p:cNvSpPr/>
          <p:nvPr/>
        </p:nvSpPr>
        <p:spPr>
          <a:xfrm>
            <a:off x="2322360" y="4194000"/>
            <a:ext cx="0" cy="1484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18"/>
          <p:cNvSpPr/>
          <p:nvPr/>
        </p:nvSpPr>
        <p:spPr>
          <a:xfrm>
            <a:off x="4842000" y="4149720"/>
            <a:ext cx="0" cy="1484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9"/>
          <p:cNvSpPr/>
          <p:nvPr/>
        </p:nvSpPr>
        <p:spPr>
          <a:xfrm>
            <a:off x="2592360" y="19432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20"/>
          <p:cNvSpPr/>
          <p:nvPr/>
        </p:nvSpPr>
        <p:spPr>
          <a:xfrm>
            <a:off x="1015920" y="23493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22"/>
          <p:cNvSpPr/>
          <p:nvPr/>
        </p:nvSpPr>
        <p:spPr>
          <a:xfrm flipV="1">
            <a:off x="4211640" y="6039000"/>
            <a:ext cx="360360" cy="225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24"/>
          <p:cNvSpPr/>
          <p:nvPr/>
        </p:nvSpPr>
        <p:spPr>
          <a:xfrm flipV="1">
            <a:off x="2276640" y="3158640"/>
            <a:ext cx="855360" cy="584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25"/>
          <p:cNvSpPr/>
          <p:nvPr/>
        </p:nvSpPr>
        <p:spPr>
          <a:xfrm>
            <a:off x="3357720" y="5454720"/>
            <a:ext cx="1214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27"/>
          <p:cNvSpPr/>
          <p:nvPr/>
        </p:nvSpPr>
        <p:spPr>
          <a:xfrm>
            <a:off x="1241280" y="4149720"/>
            <a:ext cx="414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28"/>
          <p:cNvSpPr/>
          <p:nvPr/>
        </p:nvSpPr>
        <p:spPr>
          <a:xfrm>
            <a:off x="431640" y="4643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29"/>
          <p:cNvSpPr/>
          <p:nvPr/>
        </p:nvSpPr>
        <p:spPr>
          <a:xfrm>
            <a:off x="1646280" y="4284720"/>
            <a:ext cx="0" cy="493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68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68" fill="hold"/>
                                        <p:tgtEl>
                                          <p:spTgt spid="19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68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68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06280" y="277920"/>
            <a:ext cx="8731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Py </a:t>
            </a:r>
            <a:r>
              <a:rPr b="1" lang="en-US" sz="3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 &amp; Px </a:t>
            </a:r>
            <a:r>
              <a:rPr b="1" lang="en-US" sz="3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id-ID" sz="3800" spc="-1" strike="noStrike">
                <a:solidFill>
                  <a:srgbClr val="ffffcc"/>
                </a:solidFill>
                <a:latin typeface="Tahoma"/>
              </a:rPr>
              <a:t>--&gt; 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X pada Produksi Optimum</a:t>
            </a:r>
            <a:r>
              <a:rPr b="1" lang="id-ID" sz="3800" spc="-1" strike="noStrike">
                <a:solidFill>
                  <a:srgbClr val="ffffcc"/>
                </a:solidFill>
                <a:latin typeface="Tahoma"/>
              </a:rPr>
              <a:t> tetap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3" name="Line 3"/>
          <p:cNvSpPr/>
          <p:nvPr/>
        </p:nvSpPr>
        <p:spPr>
          <a:xfrm>
            <a:off x="1241280" y="1854360"/>
            <a:ext cx="0" cy="3825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4"/>
          <p:cNvSpPr/>
          <p:nvPr/>
        </p:nvSpPr>
        <p:spPr>
          <a:xfrm>
            <a:off x="1241280" y="5678640"/>
            <a:ext cx="486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5"/>
          <p:cNvSpPr/>
          <p:nvPr/>
        </p:nvSpPr>
        <p:spPr>
          <a:xfrm>
            <a:off x="1197000" y="4194000"/>
            <a:ext cx="4275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Arc 6"/>
          <p:cNvSpPr/>
          <p:nvPr/>
        </p:nvSpPr>
        <p:spPr>
          <a:xfrm rot="10800000">
            <a:off x="2185560" y="1942920"/>
            <a:ext cx="3915000" cy="290664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7"/>
          <p:cNvSpPr/>
          <p:nvPr/>
        </p:nvSpPr>
        <p:spPr>
          <a:xfrm>
            <a:off x="3581280" y="2529000"/>
            <a:ext cx="0" cy="3149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8"/>
          <p:cNvSpPr/>
          <p:nvPr/>
        </p:nvSpPr>
        <p:spPr>
          <a:xfrm>
            <a:off x="5742000" y="58150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9"/>
          <p:cNvSpPr/>
          <p:nvPr/>
        </p:nvSpPr>
        <p:spPr>
          <a:xfrm>
            <a:off x="0" y="194328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 ;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10"/>
          <p:cNvSpPr/>
          <p:nvPr/>
        </p:nvSpPr>
        <p:spPr>
          <a:xfrm>
            <a:off x="880920" y="58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11"/>
          <p:cNvSpPr/>
          <p:nvPr/>
        </p:nvSpPr>
        <p:spPr>
          <a:xfrm>
            <a:off x="385920" y="3968640"/>
            <a:ext cx="8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12"/>
          <p:cNvSpPr/>
          <p:nvPr/>
        </p:nvSpPr>
        <p:spPr>
          <a:xfrm>
            <a:off x="3716280" y="378936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PM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13"/>
          <p:cNvSpPr/>
          <p:nvPr/>
        </p:nvSpPr>
        <p:spPr>
          <a:xfrm>
            <a:off x="2185920" y="207972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1736640" y="5815080"/>
            <a:ext cx="36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pada produksi 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15"/>
          <p:cNvSpPr/>
          <p:nvPr/>
        </p:nvSpPr>
        <p:spPr>
          <a:xfrm flipV="1">
            <a:off x="2592360" y="5994000"/>
            <a:ext cx="854280" cy="314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Arc 16"/>
          <p:cNvSpPr/>
          <p:nvPr/>
        </p:nvSpPr>
        <p:spPr>
          <a:xfrm rot="10800000">
            <a:off x="3285720" y="1089720"/>
            <a:ext cx="3714840" cy="28227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17"/>
          <p:cNvSpPr/>
          <p:nvPr/>
        </p:nvSpPr>
        <p:spPr>
          <a:xfrm flipH="1">
            <a:off x="1240920" y="2529000"/>
            <a:ext cx="279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18"/>
          <p:cNvSpPr/>
          <p:nvPr/>
        </p:nvSpPr>
        <p:spPr>
          <a:xfrm>
            <a:off x="1467000" y="2889360"/>
            <a:ext cx="0" cy="98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19"/>
          <p:cNvSpPr/>
          <p:nvPr/>
        </p:nvSpPr>
        <p:spPr>
          <a:xfrm flipV="1">
            <a:off x="2771640" y="2979720"/>
            <a:ext cx="675000" cy="223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20"/>
          <p:cNvSpPr/>
          <p:nvPr/>
        </p:nvSpPr>
        <p:spPr>
          <a:xfrm>
            <a:off x="297000" y="239400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57720" y="176364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M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22"/>
          <p:cNvSpPr/>
          <p:nvPr/>
        </p:nvSpPr>
        <p:spPr>
          <a:xfrm>
            <a:off x="3559320" y="2168640"/>
            <a:ext cx="20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PM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9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9:15:17Z</dcterms:created>
  <dc:creator>Sutara Hendrakusumaatmaja</dc:creator>
  <dc:description/>
  <dc:language>en-US</dc:language>
  <cp:lastModifiedBy>ujang</cp:lastModifiedBy>
  <dcterms:modified xsi:type="dcterms:W3CDTF">2009-09-15T03:36:19Z</dcterms:modified>
  <cp:revision>90</cp:revision>
  <dc:subject/>
  <dc:title>Slide 1</dc:title>
</cp:coreProperties>
</file>